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E53-EE6A-47D0-9E84-3F37D3C9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033-281E-471E-B6BF-D9B42412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B0F-F46B-4D61-9BBC-22CF7691D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946-62D6-4A3C-BEFB-87831DC7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0447-4CD6-4C8F-A07D-39F3A993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D01E-7FE3-4F7B-A1F3-18795254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1872-D4CA-4359-9B13-EFBC7C99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CF0A-3FE6-4D0E-BD64-884C6771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59D0-04AB-4841-9450-B37F5ED4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17CC-688D-4DFC-801A-6C713CB3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7187-5702-469D-8E84-DE6F4F25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430-429C-4BF9-8770-5FC30F22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8A09-C0D3-49CD-9557-9F5D7B5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37F5-1A7F-4373-912A-03F64ED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5071-FC95-4384-BB14-9A9FB586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A613-5B48-4AB7-B5B1-A16B2B11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176A-B787-4EC4-9473-56F32349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E51-A929-4EE0-8D81-4DF34E33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082-09C8-4FA2-ABE8-795515DD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B80-67A0-4B29-B25D-6478C5DA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F63-962C-43EA-A27A-A5829127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76E-1975-4FFB-AEC1-D6A7E70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871-EA6E-4C57-A93B-E80F83BF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C19-E5C5-48D8-AB66-9B89133D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8814-0C07-41BB-AEF3-99278715CA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CD20-8486-45D3-8FAF-8148160183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enudd.com/myth/greek/images/pythagora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0"/>
            <a:ext cx="55818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484280"/>
            <a:ext cx="989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Comic Sans MS"/>
              </a:rPr>
              <a:t>T H E O R E M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Comic Sans MS"/>
              </a:rPr>
              <a:t>P Y T H A G O R A 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Mae rheol i'w chael sy'n cysylltu hyd tair ochr triongl ongl sgwâr. Enw'r rheol honno yw </a:t>
            </a:r>
            <a:r>
              <a:rPr b="1" lang="en-GB" sz="2700" spc="-1" strike="noStrike">
                <a:solidFill>
                  <a:srgbClr val="9900ff"/>
                </a:solidFill>
                <a:latin typeface="Comic Sans MS"/>
              </a:rPr>
              <a:t>T</a:t>
            </a:r>
            <a:r>
              <a:rPr b="1" lang="cy-GB" sz="2700" spc="-1" strike="noStrike">
                <a:solidFill>
                  <a:srgbClr val="9900ff"/>
                </a:solidFill>
                <a:latin typeface="Comic Sans MS"/>
              </a:rPr>
              <a:t>heorem Pythagoras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25909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2438280"/>
            <a:ext cx="8229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Defnyddir Theorem Pythagoras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 ddarganfod hyd ochr coll mewn triongl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ongl 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sgwâr</a:t>
            </a:r>
            <a:r>
              <a:rPr b="0" lang="cy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066680" y="3733920"/>
            <a:ext cx="3124440" cy="1828800"/>
            <a:chOff x="1066680" y="3733920"/>
            <a:chExt cx="3124440" cy="1828800"/>
          </a:xfrm>
        </p:grpSpPr>
        <p:sp>
          <p:nvSpPr>
            <p:cNvPr id="266" name=""/>
            <p:cNvSpPr/>
            <p:nvPr/>
          </p:nvSpPr>
          <p:spPr>
            <a:xfrm>
              <a:off x="1066680" y="3733920"/>
              <a:ext cx="3124440" cy="182880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6680" y="5257800"/>
              <a:ext cx="457200" cy="3049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572000" y="3809880"/>
            <a:ext cx="3657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r ochr sydd gyferbyn </a:t>
            </a:r>
            <a:r>
              <a:rPr b="0" lang="cy-GB" sz="2700" spc="-1" strike="noStrike">
                <a:solidFill>
                  <a:srgbClr val="000000"/>
                </a:solidFill>
                <a:latin typeface="Comic Sans MS"/>
              </a:rPr>
              <a:t>â’r ongl sgwâr yw yr ochr hiraf yn y triongl. Enw’r ochr yma ydy </a:t>
            </a:r>
            <a:r>
              <a:rPr b="1" lang="cy-GB" sz="2700" spc="-1" strike="noStrike">
                <a:solidFill>
                  <a:srgbClr val="9900ff"/>
                </a:solidFill>
                <a:latin typeface="Comic Sans MS"/>
              </a:rPr>
              <a:t>Hypotenws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4038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Hypoten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80880" y="1981080"/>
            <a:ext cx="3047760" cy="2324880"/>
            <a:chOff x="380880" y="1981080"/>
            <a:chExt cx="3047760" cy="2324880"/>
          </a:xfrm>
        </p:grpSpPr>
        <p:grpSp>
          <p:nvGrpSpPr>
            <p:cNvPr id="272" name=""/>
            <p:cNvGrpSpPr/>
            <p:nvPr/>
          </p:nvGrpSpPr>
          <p:grpSpPr>
            <a:xfrm>
              <a:off x="1025640" y="1981080"/>
              <a:ext cx="2403000" cy="1703160"/>
              <a:chOff x="1025640" y="1981080"/>
              <a:chExt cx="2403000" cy="1703160"/>
            </a:xfrm>
          </p:grpSpPr>
          <p:sp>
            <p:nvSpPr>
              <p:cNvPr id="273" name=""/>
              <p:cNvSpPr/>
              <p:nvPr/>
            </p:nvSpPr>
            <p:spPr>
              <a:xfrm>
                <a:off x="1025640" y="1981080"/>
                <a:ext cx="2403000" cy="1703160"/>
              </a:xfrm>
              <a:prstGeom prst="rtTriangl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25640" y="3400200"/>
                <a:ext cx="351360" cy="283680"/>
              </a:xfrm>
              <a:prstGeom prst="rect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70400" y="2193840"/>
              <a:ext cx="1758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h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880" y="2548440"/>
              <a:ext cx="7030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7400" y="3755160"/>
              <a:ext cx="704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038480" y="1897200"/>
            <a:ext cx="419112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Mae Theorem Pythagoras yn dweu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962520" y="4267080"/>
            <a:ext cx="3886200" cy="1066680"/>
            <a:chOff x="3962520" y="4267080"/>
            <a:chExt cx="3886200" cy="1066680"/>
          </a:xfrm>
        </p:grpSpPr>
        <p:sp>
          <p:nvSpPr>
            <p:cNvPr id="280" name=""/>
            <p:cNvSpPr/>
            <p:nvPr/>
          </p:nvSpPr>
          <p:spPr>
            <a:xfrm>
              <a:off x="3962520" y="4267080"/>
              <a:ext cx="3886200" cy="1066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51520" y="4524120"/>
              <a:ext cx="350820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700" spc="-1" strike="noStrike">
                  <a:solidFill>
                    <a:srgbClr val="9900ff"/>
                  </a:solidFill>
                  <a:latin typeface="Comic Sans MS"/>
                </a:rPr>
                <a:t>h</a:t>
              </a:r>
              <a:r>
                <a:rPr b="1" lang="en-GB" sz="3700" spc="-1" strike="noStrike" baseline="30000">
                  <a:solidFill>
                    <a:srgbClr val="9900ff"/>
                  </a:solidFill>
                  <a:latin typeface="Comic Sans MS"/>
                </a:rPr>
                <a:t>2</a:t>
              </a:r>
              <a:r>
                <a:rPr b="1" lang="en-GB" sz="3700" spc="-1" strike="noStrike">
                  <a:solidFill>
                    <a:srgbClr val="9900ff"/>
                  </a:solidFill>
                  <a:latin typeface="Comic Sans MS"/>
                </a:rPr>
                <a:t> = a</a:t>
              </a:r>
              <a:r>
                <a:rPr b="1" lang="en-GB" sz="3700" spc="-1" strike="noStrike" baseline="30000">
                  <a:solidFill>
                    <a:srgbClr val="9900ff"/>
                  </a:solidFill>
                  <a:latin typeface="Comic Sans MS"/>
                </a:rPr>
                <a:t>2</a:t>
              </a:r>
              <a:r>
                <a:rPr b="1" lang="en-GB" sz="3700" spc="-1" strike="noStrike">
                  <a:solidFill>
                    <a:srgbClr val="9900ff"/>
                  </a:solidFill>
                  <a:latin typeface="Comic Sans MS"/>
                </a:rPr>
                <a:t>  +  b</a:t>
              </a:r>
              <a:r>
                <a:rPr b="1" lang="en-GB" sz="3700" spc="-1" strike="noStrike" baseline="30000">
                  <a:solidFill>
                    <a:srgbClr val="9900ff"/>
                  </a:solidFill>
                  <a:latin typeface="Comic Sans MS"/>
                </a:rPr>
                <a:t>2</a:t>
              </a:r>
              <a:r>
                <a:rPr b="0" lang="en-GB" sz="3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/>
          <p:nvPr/>
        </p:nvSpPr>
        <p:spPr>
          <a:xfrm>
            <a:off x="1295280" y="990720"/>
            <a:ext cx="6477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DARGANFOD HYD YR HYPOTEN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28600" y="1905120"/>
            <a:ext cx="3733560" cy="2288520"/>
            <a:chOff x="228600" y="1905120"/>
            <a:chExt cx="3733560" cy="2288520"/>
          </a:xfrm>
        </p:grpSpPr>
        <p:grpSp>
          <p:nvGrpSpPr>
            <p:cNvPr id="285" name=""/>
            <p:cNvGrpSpPr/>
            <p:nvPr/>
          </p:nvGrpSpPr>
          <p:grpSpPr>
            <a:xfrm>
              <a:off x="1295280" y="1905120"/>
              <a:ext cx="2666880" cy="1752480"/>
              <a:chOff x="1295280" y="1905120"/>
              <a:chExt cx="2666880" cy="1752480"/>
            </a:xfrm>
          </p:grpSpPr>
          <p:sp>
            <p:nvSpPr>
              <p:cNvPr id="286" name=""/>
              <p:cNvSpPr/>
              <p:nvPr/>
            </p:nvSpPr>
            <p:spPr>
              <a:xfrm>
                <a:off x="1295280" y="1905120"/>
                <a:ext cx="2666880" cy="1752480"/>
              </a:xfrm>
              <a:prstGeom prst="rtTriangle">
                <a:avLst/>
              </a:prstGeom>
              <a:solidFill>
                <a:srgbClr val="fddd3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95280" y="3505320"/>
                <a:ext cx="152280" cy="152280"/>
              </a:xfrm>
              <a:prstGeom prst="rect">
                <a:avLst/>
              </a:prstGeom>
              <a:solidFill>
                <a:srgbClr val="fddd3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2057400" y="3733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8600" y="25909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14600" y="2286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648320" y="1905120"/>
            <a:ext cx="32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3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2514600"/>
            <a:ext cx="266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16 + 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3276720"/>
            <a:ext cx="228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2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724280" y="4038480"/>
            <a:ext cx="1905120" cy="505440"/>
            <a:chOff x="4724280" y="4038480"/>
            <a:chExt cx="1905120" cy="505440"/>
          </a:xfrm>
        </p:grpSpPr>
        <p:sp>
          <p:nvSpPr>
            <p:cNvPr id="295" name=""/>
            <p:cNvSpPr/>
            <p:nvPr/>
          </p:nvSpPr>
          <p:spPr>
            <a:xfrm>
              <a:off x="4724280" y="4038480"/>
              <a:ext cx="190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"/>
                </a:rPr>
                <a:t>x =</a:t>
              </a:r>
              <a:r>
                <a:rPr b="1" lang="en-GB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1" lang="en-GB" sz="2700" spc="-1" strike="noStrike">
                  <a:solidFill>
                    <a:srgbClr val="000000"/>
                  </a:solidFill>
                  <a:latin typeface="Comic Sans MS"/>
                </a:rPr>
                <a:t>2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8640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724280" y="4724280"/>
            <a:ext cx="1905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5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33720" y="54864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fiwch mai yr hypotenws yw’r ochr hiraf bob tro, felly mae’r ateb yma yn gwneud synnw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"/>
          <p:cNvSpPr/>
          <p:nvPr/>
        </p:nvSpPr>
        <p:spPr>
          <a:xfrm>
            <a:off x="179280" y="907920"/>
            <a:ext cx="6193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Ymar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24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763640" y="23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0920" y="1557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rganfyddwch hyd yr hypotenws ar gyfer y trionglau canly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93880" y="2895480"/>
            <a:ext cx="1590120" cy="1612800"/>
            <a:chOff x="893880" y="2895480"/>
            <a:chExt cx="1590120" cy="1612800"/>
          </a:xfrm>
        </p:grpSpPr>
        <p:sp>
          <p:nvSpPr>
            <p:cNvPr id="305" name=""/>
            <p:cNvSpPr/>
            <p:nvPr/>
          </p:nvSpPr>
          <p:spPr>
            <a:xfrm>
              <a:off x="893880" y="2895480"/>
              <a:ext cx="1590120" cy="1612800"/>
            </a:xfrm>
            <a:prstGeom prst="rtTriangl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93880" y="4201200"/>
              <a:ext cx="374040" cy="3070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771640" y="4878360"/>
            <a:ext cx="2180880" cy="1143000"/>
            <a:chOff x="2771640" y="4878360"/>
            <a:chExt cx="2180880" cy="1143000"/>
          </a:xfrm>
        </p:grpSpPr>
        <p:sp>
          <p:nvSpPr>
            <p:cNvPr id="308" name=""/>
            <p:cNvSpPr/>
            <p:nvPr/>
          </p:nvSpPr>
          <p:spPr>
            <a:xfrm flipH="1">
              <a:off x="2771640" y="4878360"/>
              <a:ext cx="2180880" cy="1143000"/>
            </a:xfrm>
            <a:prstGeom prst="rtTriangle">
              <a:avLst/>
            </a:prstGeom>
            <a:solidFill>
              <a:srgbClr val="ffe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03680" y="5716440"/>
              <a:ext cx="348840" cy="304920"/>
            </a:xfrm>
            <a:prstGeom prst="rect">
              <a:avLst/>
            </a:prstGeom>
            <a:solidFill>
              <a:srgbClr val="ffe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443640" y="2781360"/>
            <a:ext cx="1366560" cy="2630160"/>
            <a:chOff x="6443640" y="2781360"/>
            <a:chExt cx="1366560" cy="2630160"/>
          </a:xfrm>
        </p:grpSpPr>
        <p:sp>
          <p:nvSpPr>
            <p:cNvPr id="311" name=""/>
            <p:cNvSpPr/>
            <p:nvPr/>
          </p:nvSpPr>
          <p:spPr>
            <a:xfrm flipV="1">
              <a:off x="6443640" y="2781360"/>
              <a:ext cx="1366560" cy="2630160"/>
            </a:xfrm>
            <a:prstGeom prst="rtTriangle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43640" y="2781360"/>
              <a:ext cx="321480" cy="362520"/>
            </a:xfrm>
            <a:prstGeom prst="rect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116000" y="4653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429000"/>
            <a:ext cx="9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mm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7636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48000" y="6165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19640" y="60213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4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32360" y="522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164360" y="400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96000" y="3573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59640" y="24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4" name=""/>
          <p:cNvSpPr/>
          <p:nvPr/>
        </p:nvSpPr>
        <p:spPr>
          <a:xfrm>
            <a:off x="1042920" y="981000"/>
            <a:ext cx="662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DARGANFOD HYD YR OCHR AR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295280" y="1905120"/>
            <a:ext cx="2666880" cy="1752480"/>
            <a:chOff x="1295280" y="1905120"/>
            <a:chExt cx="2666880" cy="1752480"/>
          </a:xfrm>
        </p:grpSpPr>
        <p:sp>
          <p:nvSpPr>
            <p:cNvPr id="326" name=""/>
            <p:cNvSpPr/>
            <p:nvPr/>
          </p:nvSpPr>
          <p:spPr>
            <a:xfrm>
              <a:off x="1295280" y="1905120"/>
              <a:ext cx="2666880" cy="1752480"/>
            </a:xfrm>
            <a:prstGeom prst="rtTriangle">
              <a:avLst/>
            </a:prstGeom>
            <a:solidFill>
              <a:srgbClr val="fddd3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95280" y="3505320"/>
              <a:ext cx="152280" cy="152280"/>
            </a:xfrm>
            <a:prstGeom prst="rect">
              <a:avLst/>
            </a:prstGeom>
            <a:solidFill>
              <a:srgbClr val="fddd3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057400" y="3733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2286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1844640"/>
            <a:ext cx="324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= 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2421000"/>
            <a:ext cx="223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25 = 16 +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3068640"/>
            <a:ext cx="252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25 – 16 =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56000" y="3645000"/>
            <a:ext cx="259236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9 =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4292640"/>
            <a:ext cx="208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√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9 = 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43280" y="4941720"/>
            <a:ext cx="223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3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8" name=""/>
          <p:cNvSpPr/>
          <p:nvPr/>
        </p:nvSpPr>
        <p:spPr>
          <a:xfrm>
            <a:off x="135720" y="836640"/>
            <a:ext cx="148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Ymarf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341360"/>
            <a:ext cx="86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Darganfyddwch yr hyd coll ar gyfer y trionglau canly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971640" y="2276640"/>
            <a:ext cx="1512360" cy="2231640"/>
            <a:chOff x="971640" y="2276640"/>
            <a:chExt cx="1512360" cy="2231640"/>
          </a:xfrm>
        </p:grpSpPr>
        <p:sp>
          <p:nvSpPr>
            <p:cNvPr id="341" name=""/>
            <p:cNvSpPr/>
            <p:nvPr/>
          </p:nvSpPr>
          <p:spPr>
            <a:xfrm>
              <a:off x="971640" y="2276640"/>
              <a:ext cx="1512360" cy="2231640"/>
            </a:xfrm>
            <a:prstGeom prst="rtTriangl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71640" y="4083120"/>
              <a:ext cx="356040" cy="42516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771640" y="4878360"/>
            <a:ext cx="2180880" cy="1143000"/>
            <a:chOff x="2771640" y="4878360"/>
            <a:chExt cx="2180880" cy="1143000"/>
          </a:xfrm>
        </p:grpSpPr>
        <p:sp>
          <p:nvSpPr>
            <p:cNvPr id="344" name=""/>
            <p:cNvSpPr/>
            <p:nvPr/>
          </p:nvSpPr>
          <p:spPr>
            <a:xfrm flipH="1">
              <a:off x="2771640" y="4878360"/>
              <a:ext cx="2180880" cy="1143000"/>
            </a:xfrm>
            <a:prstGeom prst="rtTriangle">
              <a:avLst/>
            </a:prstGeom>
            <a:solidFill>
              <a:srgbClr val="ffe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03680" y="5716440"/>
              <a:ext cx="348840" cy="304920"/>
            </a:xfrm>
            <a:prstGeom prst="rect">
              <a:avLst/>
            </a:prstGeom>
            <a:solidFill>
              <a:srgbClr val="ffe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443640" y="2781360"/>
            <a:ext cx="1366560" cy="2630160"/>
            <a:chOff x="6443640" y="2781360"/>
            <a:chExt cx="1366560" cy="2630160"/>
          </a:xfrm>
        </p:grpSpPr>
        <p:sp>
          <p:nvSpPr>
            <p:cNvPr id="347" name=""/>
            <p:cNvSpPr/>
            <p:nvPr/>
          </p:nvSpPr>
          <p:spPr>
            <a:xfrm flipV="1">
              <a:off x="6443640" y="2781360"/>
              <a:ext cx="1366560" cy="2630160"/>
            </a:xfrm>
            <a:prstGeom prst="rtTriangle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43640" y="2781360"/>
              <a:ext cx="321480" cy="362520"/>
            </a:xfrm>
            <a:prstGeom prst="rect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042920" y="4508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7640" y="3284640"/>
            <a:ext cx="115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2997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932360" y="5229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2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43280" y="501336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4.7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80000" y="59500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88000" y="2349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08720" y="3860640"/>
            <a:ext cx="10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8.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96000" y="3500280"/>
            <a:ext cx="5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90792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000000"/>
                </a:solidFill>
                <a:uFillTx/>
                <a:latin typeface="Comic Sans MS"/>
              </a:rPr>
              <a:t>DARGANFOD HYD OCHRAU TRIONGL ISOSGE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50920" y="2276640"/>
            <a:ext cx="3313080" cy="2665800"/>
            <a:chOff x="250920" y="2276640"/>
            <a:chExt cx="3313080" cy="2665800"/>
          </a:xfrm>
        </p:grpSpPr>
        <p:sp>
          <p:nvSpPr>
            <p:cNvPr id="361" name=""/>
            <p:cNvSpPr/>
            <p:nvPr/>
          </p:nvSpPr>
          <p:spPr>
            <a:xfrm>
              <a:off x="250920" y="2276640"/>
              <a:ext cx="2017440" cy="223200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6920" y="4437000"/>
              <a:ext cx="1297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8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340000" y="2276640"/>
              <a:ext cx="0" cy="2232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11280" y="292428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6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4427640" y="1989000"/>
            <a:ext cx="367344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fiwch: Mae Theorem Pythagoras dim ond yn gweithio ar gyfer trionglau ongl sgw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âr, felly mae’n rhaid rhannu’r triongl yn ddau er mwyn cael triongl ongl </a:t>
            </a:r>
            <a:r>
              <a:rPr b="0" lang="en-GB" sz="2700" spc="-1" strike="noStrike">
                <a:solidFill>
                  <a:srgbClr val="ff0000"/>
                </a:solidFill>
                <a:latin typeface="Comic Sans MS"/>
              </a:rPr>
              <a:t>sgw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â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58920" y="2276640"/>
            <a:ext cx="1009440" cy="2232000"/>
          </a:xfrm>
          <a:prstGeom prst="rtTriangle">
            <a:avLst/>
          </a:prstGeom>
          <a:solidFill>
            <a:srgbClr val="0ea4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6920" y="2276640"/>
            <a:ext cx="1009800" cy="2232000"/>
          </a:xfrm>
          <a:prstGeom prst="rtTriangle">
            <a:avLst/>
          </a:prstGeom>
          <a:solidFill>
            <a:srgbClr val="0ea4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588000" y="2349360"/>
            <a:ext cx="0" cy="2159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24360" y="306864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2000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8036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47640" y="28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92360" y="3213000"/>
            <a:ext cx="259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= 6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19640" y="3716280"/>
            <a:ext cx="273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36 + 1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19640" y="4221000"/>
            <a:ext cx="2952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5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76720" y="4653000"/>
            <a:ext cx="309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√52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132000" y="5157720"/>
            <a:ext cx="345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x = 7.2cm (1.ll.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2025600">
            <a:off x="3708000" y="620640"/>
            <a:ext cx="3025800" cy="2808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2362320"/>
            <a:ext cx="1656000" cy="165564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4017960"/>
            <a:ext cx="2592360" cy="2592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2362320"/>
            <a:ext cx="2592360" cy="165564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94200" y="400536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520360" y="296064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53000">
            <a:off x="4210920" y="270828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3640" y="3645000"/>
            <a:ext cx="360360" cy="358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292360" y="3789360"/>
            <a:ext cx="23036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403280" y="3428640"/>
            <a:ext cx="57636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1341360"/>
            <a:ext cx="2664000" cy="14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4437000"/>
            <a:ext cx="345780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r ochr hirra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w’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558972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Pob tro cyferbyn a’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54680" y="3029040"/>
            <a:ext cx="2135160" cy="1430280"/>
          </a:xfrm>
          <a:custGeom>
            <a:avLst/>
            <a:gdLst/>
            <a:ahLst/>
            <a:rect l="l" t="t" r="r" b="b"/>
            <a:pathLst>
              <a:path w="1345" h="901">
                <a:moveTo>
                  <a:pt x="1345" y="901"/>
                </a:moveTo>
                <a:cubicBezTo>
                  <a:pt x="1321" y="847"/>
                  <a:pt x="1295" y="793"/>
                  <a:pt x="1282" y="735"/>
                </a:cubicBezTo>
                <a:cubicBezTo>
                  <a:pt x="1271" y="684"/>
                  <a:pt x="1265" y="647"/>
                  <a:pt x="1242" y="601"/>
                </a:cubicBezTo>
                <a:cubicBezTo>
                  <a:pt x="1216" y="548"/>
                  <a:pt x="1191" y="470"/>
                  <a:pt x="1140" y="435"/>
                </a:cubicBezTo>
                <a:cubicBezTo>
                  <a:pt x="1112" y="306"/>
                  <a:pt x="1114" y="275"/>
                  <a:pt x="998" y="207"/>
                </a:cubicBezTo>
                <a:cubicBezTo>
                  <a:pt x="900" y="60"/>
                  <a:pt x="684" y="49"/>
                  <a:pt x="524" y="41"/>
                </a:cubicBezTo>
                <a:cubicBezTo>
                  <a:pt x="402" y="0"/>
                  <a:pt x="494" y="24"/>
                  <a:pt x="240" y="33"/>
                </a:cubicBezTo>
                <a:cubicBezTo>
                  <a:pt x="192" y="50"/>
                  <a:pt x="223" y="35"/>
                  <a:pt x="161" y="96"/>
                </a:cubicBezTo>
                <a:cubicBezTo>
                  <a:pt x="148" y="108"/>
                  <a:pt x="129" y="110"/>
                  <a:pt x="114" y="120"/>
                </a:cubicBezTo>
                <a:cubicBezTo>
                  <a:pt x="86" y="162"/>
                  <a:pt x="77" y="186"/>
                  <a:pt x="27" y="199"/>
                </a:cubicBezTo>
                <a:cubicBezTo>
                  <a:pt x="0" y="218"/>
                  <a:pt x="4" y="206"/>
                  <a:pt x="4" y="23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7280" y="907560"/>
            <a:ext cx="687096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Felly        =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2332800" y="1268280"/>
            <a:ext cx="459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(      ) = (      ) + (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55480" y="206064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987640" y="2708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32000" y="3141720"/>
            <a:ext cx="2952720" cy="11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Yr Hypotenw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(yr ochr hirr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5280" y="3141720"/>
            <a:ext cx="2952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Y ddwy ochr aral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5076360" y="2708280"/>
            <a:ext cx="1366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4724280"/>
            <a:ext cx="720108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Theorem Pythagora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7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0360" y="4797360"/>
            <a:ext cx="2016360" cy="115272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08720" y="508644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0920" y="5878440"/>
            <a:ext cx="86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77080" y="4941720"/>
            <a:ext cx="865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7772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Ymar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 gyfer y trionglau canlynol, ysgrifennwch Theorem Pythagoras ar eu cy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33520" y="2895480"/>
            <a:ext cx="1295280" cy="1600200"/>
            <a:chOff x="533520" y="2895480"/>
            <a:chExt cx="1295280" cy="1600200"/>
          </a:xfrm>
        </p:grpSpPr>
        <p:sp>
          <p:nvSpPr>
            <p:cNvPr id="183" name=""/>
            <p:cNvSpPr/>
            <p:nvPr/>
          </p:nvSpPr>
          <p:spPr>
            <a:xfrm>
              <a:off x="533520" y="2895480"/>
              <a:ext cx="1295280" cy="1600200"/>
            </a:xfrm>
            <a:prstGeom prst="rtTriangl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3520" y="4190760"/>
              <a:ext cx="304920" cy="30492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047760" y="3048120"/>
            <a:ext cx="1904760" cy="1143000"/>
            <a:chOff x="3047760" y="3048120"/>
            <a:chExt cx="1904760" cy="1143000"/>
          </a:xfrm>
        </p:grpSpPr>
        <p:sp>
          <p:nvSpPr>
            <p:cNvPr id="186" name=""/>
            <p:cNvSpPr/>
            <p:nvPr/>
          </p:nvSpPr>
          <p:spPr>
            <a:xfrm flipH="1">
              <a:off x="3047400" y="3048120"/>
              <a:ext cx="1904760" cy="1143000"/>
            </a:xfrm>
            <a:prstGeom prst="rtTriangle">
              <a:avLst/>
            </a:prstGeom>
            <a:solidFill>
              <a:srgbClr val="ffe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7960" y="3886200"/>
              <a:ext cx="304560" cy="304920"/>
            </a:xfrm>
            <a:prstGeom prst="rect">
              <a:avLst/>
            </a:prstGeom>
            <a:solidFill>
              <a:srgbClr val="ffe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934320" y="2743200"/>
            <a:ext cx="1295280" cy="2209680"/>
            <a:chOff x="6934320" y="2743200"/>
            <a:chExt cx="1295280" cy="2209680"/>
          </a:xfrm>
        </p:grpSpPr>
        <p:sp>
          <p:nvSpPr>
            <p:cNvPr id="189" name=""/>
            <p:cNvSpPr/>
            <p:nvPr/>
          </p:nvSpPr>
          <p:spPr>
            <a:xfrm flipV="1">
              <a:off x="6934320" y="2743200"/>
              <a:ext cx="1295280" cy="2209680"/>
            </a:xfrm>
            <a:prstGeom prst="rtTriangle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4320" y="2743200"/>
              <a:ext cx="304920" cy="304560"/>
            </a:xfrm>
            <a:prstGeom prst="rect">
              <a:avLst/>
            </a:prstGeom>
            <a:solidFill>
              <a:srgbClr val="00b2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9907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3276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4952880"/>
            <a:ext cx="213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f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e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4952880"/>
            <a:ext cx="236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b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4983120"/>
            <a:ext cx="2133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= x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0" lang="en-GB" sz="27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4920" y="117000"/>
            <a:ext cx="1944720" cy="2521080"/>
            <a:chOff x="34920" y="117000"/>
            <a:chExt cx="1944720" cy="2521080"/>
          </a:xfrm>
        </p:grpSpPr>
        <p:sp>
          <p:nvSpPr>
            <p:cNvPr id="204" name=""/>
            <p:cNvSpPr/>
            <p:nvPr/>
          </p:nvSpPr>
          <p:spPr>
            <a:xfrm rot="16200000">
              <a:off x="-252360" y="404280"/>
              <a:ext cx="2519640" cy="194472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48000" y="2298600"/>
              <a:ext cx="431640" cy="3394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55640" y="2709720"/>
            <a:ext cx="107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1270080"/>
            <a:ext cx="107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8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90972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87640" y="54936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au hawdd i ddarganfod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163044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1 rhifau (mwyaf yn gynt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285588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2 sgw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41511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+ neu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52308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Ailisraddio 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35640" y="422100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Ochr hirraf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34920" y="117000"/>
            <a:ext cx="1944720" cy="2521080"/>
            <a:chOff x="34920" y="117000"/>
            <a:chExt cx="1944720" cy="2521080"/>
          </a:xfrm>
        </p:grpSpPr>
        <p:sp>
          <p:nvSpPr>
            <p:cNvPr id="216" name=""/>
            <p:cNvSpPr/>
            <p:nvPr/>
          </p:nvSpPr>
          <p:spPr>
            <a:xfrm rot="16200000">
              <a:off x="-252360" y="404280"/>
              <a:ext cx="2519640" cy="194472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48000" y="2298600"/>
              <a:ext cx="431640" cy="3394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55640" y="270972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13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79640" y="127008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17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90972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54936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au hawdd i ddarganfod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163044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1 rhifau (mwyaf yn gynt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85588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2 sgw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27280" y="41511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+ neu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52308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Ailisraddio 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422100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Ochr hirraf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-216360" y="244800"/>
            <a:ext cx="2953080" cy="2553840"/>
            <a:chOff x="-216360" y="244800"/>
            <a:chExt cx="2953080" cy="2553840"/>
          </a:xfrm>
        </p:grpSpPr>
        <p:sp>
          <p:nvSpPr>
            <p:cNvPr id="228" name=""/>
            <p:cNvSpPr/>
            <p:nvPr/>
          </p:nvSpPr>
          <p:spPr>
            <a:xfrm rot="11742000">
              <a:off x="0" y="549000"/>
              <a:ext cx="2519640" cy="1944720"/>
            </a:xfrm>
            <a:prstGeom prst="rtTriangl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7142000">
              <a:off x="2298960" y="918360"/>
              <a:ext cx="431640" cy="3394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692360" y="155736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5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8000" y="98100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8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95640" y="333360"/>
            <a:ext cx="107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87640" y="54936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au hawdd i ddarganfod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163044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1 rhifau (mwyaf yn gyntaf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285588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2 sgwari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415116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+ neu 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5230800"/>
            <a:ext cx="5867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CAM 3 Ailisraddio 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4221000"/>
            <a:ext cx="51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Comic Sans MS"/>
              </a:rPr>
              <a:t>Ochr hirraf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 rot="2025600">
            <a:off x="3708000" y="620640"/>
            <a:ext cx="3025800" cy="2808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2362320"/>
            <a:ext cx="1656000" cy="165564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03640" y="4017960"/>
            <a:ext cx="2592360" cy="2592360"/>
          </a:xfrm>
          <a:prstGeom prst="rect">
            <a:avLst/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2362320"/>
            <a:ext cx="2592360" cy="1655640"/>
          </a:xfrm>
          <a:prstGeom prst="rtTriangl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3640" y="3645000"/>
            <a:ext cx="360360" cy="358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9810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8360" y="438624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2720" y="294624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cm</a:t>
            </a:r>
            <a:r>
              <a:rPr b="0" lang="en-GB" sz="5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292360" y="3789360"/>
            <a:ext cx="23036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403280" y="3428640"/>
            <a:ext cx="576360" cy="1079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84360" y="1341360"/>
            <a:ext cx="2664000" cy="14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4437000"/>
            <a:ext cx="345780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r ochr hirra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yw’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0360" y="558972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Pob tro cyferbyn a’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52280" y="152280"/>
            <a:ext cx="3886200" cy="609840"/>
          </a:xfrm>
          <a:prstGeom prst="rect">
            <a:avLst/>
          </a:prstGeom>
        </p:spPr>
        <p:txBody>
          <a:bodyPr wrap="none" lIns="90000" rIns="90000" tIns="46800" bIns="46800" anchor="b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8380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 Black"/>
              </a:rPr>
              <a:t>YR ATE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167652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38862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Darganfod hyd un ochr triongl ongl sgwar"/>
          <p:cNvPicPr/>
          <p:nvPr/>
        </p:nvPicPr>
        <p:blipFill>
          <a:blip r:embed="rId2"/>
          <a:stretch/>
        </p:blipFill>
        <p:spPr>
          <a:xfrm>
            <a:off x="3048120" y="4648320"/>
            <a:ext cx="2971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1371600" y="2362320"/>
            <a:ext cx="6553080" cy="1747440"/>
            <a:chOff x="1371600" y="2362320"/>
            <a:chExt cx="6553080" cy="1747440"/>
          </a:xfrm>
        </p:grpSpPr>
        <p:sp>
          <p:nvSpPr>
            <p:cNvPr id="258" name=""/>
            <p:cNvSpPr/>
            <p:nvPr/>
          </p:nvSpPr>
          <p:spPr>
            <a:xfrm>
              <a:off x="1447920" y="2438280"/>
              <a:ext cx="6476760" cy="1295640"/>
            </a:xfrm>
            <a:prstGeom prst="flowChartAlternateProcess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76520" y="2514600"/>
              <a:ext cx="601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1600" y="2362320"/>
              <a:ext cx="655308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GB" sz="2400" spc="-1" strike="noStrike">
                  <a:solidFill>
                    <a:srgbClr val="9900ff"/>
                  </a:solidFill>
                  <a:latin typeface="Comic Sans MS"/>
                </a:rPr>
                <a:t>Cyfanswm arwynebedd y ddau sgwar lleiaf     </a:t>
              </a:r>
              <a:r>
                <a:rPr b="1" lang="en-GB" sz="2400" spc="-1" strike="noStrike">
                  <a:solidFill>
                    <a:srgbClr val="9900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9900ff"/>
                  </a:solidFill>
                  <a:latin typeface="Comic Sans MS"/>
                </a:rPr>
                <a:t>yw arwynebedd y sgwar mwyaf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MAE HYN YN WIR BOB TRO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6:42:01Z</dcterms:created>
  <dc:creator>Goss</dc:creator>
  <dc:description/>
  <dc:language>en-US</dc:language>
  <cp:lastModifiedBy>Betsan Wyn Thomas</cp:lastModifiedBy>
  <dcterms:modified xsi:type="dcterms:W3CDTF">2008-01-27T20:43:50Z</dcterms:modified>
  <cp:revision>57</cp:revision>
  <dc:subject/>
  <dc:title>Rhifau Negatif</dc:title>
</cp:coreProperties>
</file>